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7EC-A3E3-4E13-A193-00496B9B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09480" y="42278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D5A-2AFB-4F5A-95EA-B486D992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3232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A677-D18E-4912-A289-305A54C0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1964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02980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0948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1964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02980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445-3099-4F71-A071-60A414A2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CF64-8727-4FFD-82E6-4DCE0C16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A6BA-6509-411F-A4FF-EF3C9148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00FC-B8BB-45E0-8E15-9F153CC9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A7F2-F1F1-41E4-865E-F38549D3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9FA4-DAA2-4732-875D-3AFE0AD9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7045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DC10-0E13-4E3B-8C2D-E03BF8C0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521C-A657-4BA1-A600-74D05650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03C3-7930-436C-B5E3-DBB8347E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232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D886-2B99-4979-A50B-215CC1E1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B7A3-D2F8-45E5-BBAE-28F5E86E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09480" y="42278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2368-61B9-4FE5-AAC7-43DBF7DC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23232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600B-92D5-4293-855C-8BAA2492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1964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02980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0948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31964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02980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4826-A5DB-4DB5-A616-B84B5632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75A46-4E65-44F1-8B59-70EC64EE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584B9-492B-4782-9E71-B14998E3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DFB26-16DB-4545-82E6-F61BB036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D3625-A8BD-4F68-BAA5-28654465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7A4D2-C2A3-47A0-BBE1-BB32B536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AA09-A7E3-4E61-8EB5-713F21AA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7045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B2C82-41B9-4BAA-B8FF-978FD20F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E971E-6797-41F4-8FFD-E94B30CE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3232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400F0-4BB7-490D-B170-085FF9E0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F9D97-94D6-40EF-ADD0-0CCBBDFB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09480" y="42278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89809-1116-4C3C-A577-81D84698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23232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75C43-9574-471D-8AB9-2F582462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31964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02980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0948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31964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02980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AEF75-2668-40D5-82AE-E5537A5A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BA2A7-129B-4387-AB19-BC90865C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8F469-AC1E-4347-863D-D78761FC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2ED75-23B0-4CAD-B71E-1269A9D7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249-FDAF-4AC8-AE4B-8C0377B0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9C6F2-3659-4A8B-805D-451C963B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3D7A8-7D40-44AA-A1AC-EB72C11D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09480" y="7045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402F9-2A18-441A-8563-F5A25FA5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9BFC9-D9CE-485D-A9DB-3627FBC4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3232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66352-D545-409B-9FA4-0A437C77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5B4FF-D97B-4B64-A5A8-114B69DC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09480" y="42278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7BF8C-A970-434F-887E-0E8EE058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23232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71DB9-CD66-4797-BFC5-1A9F46EF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31964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02980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0948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31964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802980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CF608-116A-47E0-81B8-B71A5B73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8AE00-F996-4AA4-AF7A-29042C69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C8BB-D8BB-4C57-B336-E649902C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E314D-6699-46E6-B880-1BF30108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91F4D-2BE4-499B-98C0-E3125409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B76EE-3232-405A-8AFD-C31050F0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27226-477C-429C-882B-7D83A441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7045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0796E-BCA2-4D87-8D86-A134A8DA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769B6-CB66-4E8E-9D29-15894F4E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EBF50-0525-452E-A3B4-9EA10430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41E37-0379-4F54-AC40-BD9F8B3F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42278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B4CCB-BDA1-4747-9798-3FC3338E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5FD62-913B-4E33-8B0C-4BB5E002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09480" y="7045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360-E8E9-4545-87FE-E939C7A5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DB8A8-35DA-4CC1-A6A2-AEE87203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09480" y="7045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3232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E956-B9C3-4F1C-980A-2CD4FE82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09480" y="42278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3232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31964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02980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0948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431964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802980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480" y="7045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3232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4D73-D152-4604-BA28-D2322A15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3232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9480" y="42278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232320" y="42278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31964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029800" y="19346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0948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31964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029800" y="4227840"/>
            <a:ext cx="3533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1934640"/>
            <a:ext cx="5354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4227840"/>
            <a:ext cx="10972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C97-E3A1-4E7C-A842-BD0DEC41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12600" y="-7920"/>
            <a:ext cx="12217320" cy="1041480"/>
          </a:xfrm>
          <a:custGeom>
            <a:avLst/>
            <a:gdLst>
              <a:gd name="textAreaLeft" fmla="*/ 0 w 12217320"/>
              <a:gd name="textAreaRight" fmla="*/ 12217680 w 122173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5842080" y="-7920"/>
            <a:ext cx="6350040" cy="638280"/>
          </a:xfrm>
          <a:custGeom>
            <a:avLst/>
            <a:gdLst>
              <a:gd name="textAreaLeft" fmla="*/ 0 w 6350040"/>
              <a:gd name="textAreaRight" fmla="*/ 6350400 w 63500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7721640" y="6357960"/>
            <a:ext cx="4470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0566360" y="6356520"/>
            <a:ext cx="1015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1E29-2092-46D6-B2CF-93F1EC87FDB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组合 1"/>
          <p:cNvGrpSpPr/>
          <p:nvPr/>
        </p:nvGrpSpPr>
        <p:grpSpPr>
          <a:xfrm>
            <a:off x="-25560" y="203040"/>
            <a:ext cx="12242160" cy="648000"/>
            <a:chOff x="-25560" y="203040"/>
            <a:chExt cx="12242160" cy="648000"/>
          </a:xfrm>
        </p:grpSpPr>
        <p:grpSp>
          <p:nvGrpSpPr>
            <p:cNvPr id="8" name="任意多边形 11"/>
            <p:cNvGrpSpPr/>
            <p:nvPr/>
          </p:nvGrpSpPr>
          <p:grpSpPr>
            <a:xfrm>
              <a:off x="-25560" y="203040"/>
              <a:ext cx="12217680" cy="648000"/>
              <a:chOff x="-25560" y="203040"/>
              <a:chExt cx="12217680" cy="648000"/>
            </a:xfrm>
          </p:grpSpPr>
          <p:pic>
            <p:nvPicPr>
              <p:cNvPr id="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3600" y="203040"/>
                <a:ext cx="12195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520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任意多边形 12"/>
            <p:cNvGrpSpPr/>
            <p:nvPr/>
          </p:nvGrpSpPr>
          <p:grpSpPr>
            <a:xfrm>
              <a:off x="-19440" y="242640"/>
              <a:ext cx="12236040" cy="572040"/>
              <a:chOff x="-19440" y="242640"/>
              <a:chExt cx="12236040" cy="572040"/>
            </a:xfrm>
          </p:grpSpPr>
          <p:pic>
            <p:nvPicPr>
              <p:cNvPr id="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720" y="242640"/>
                <a:ext cx="12217320" cy="57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9080" y="5641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任意多边形 6"/>
          <p:cNvSpPr/>
          <p:nvPr/>
        </p:nvSpPr>
        <p:spPr>
          <a:xfrm>
            <a:off x="-12600" y="-7920"/>
            <a:ext cx="12217320" cy="1041480"/>
          </a:xfrm>
          <a:custGeom>
            <a:avLst/>
            <a:gdLst>
              <a:gd name="textAreaLeft" fmla="*/ 0 w 12217320"/>
              <a:gd name="textAreaRight" fmla="*/ 12217680 w 122173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7"/>
          <p:cNvSpPr/>
          <p:nvPr/>
        </p:nvSpPr>
        <p:spPr>
          <a:xfrm>
            <a:off x="5842080" y="-7920"/>
            <a:ext cx="6350040" cy="638280"/>
          </a:xfrm>
          <a:custGeom>
            <a:avLst/>
            <a:gdLst>
              <a:gd name="textAreaLeft" fmla="*/ 0 w 6350040"/>
              <a:gd name="textAreaRight" fmla="*/ 6350400 w 63500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"/>
          <p:cNvGrpSpPr/>
          <p:nvPr/>
        </p:nvGrpSpPr>
        <p:grpSpPr>
          <a:xfrm>
            <a:off x="-25560" y="203040"/>
            <a:ext cx="12242160" cy="648000"/>
            <a:chOff x="-25560" y="203040"/>
            <a:chExt cx="12242160" cy="648000"/>
          </a:xfrm>
        </p:grpSpPr>
        <p:grpSp>
          <p:nvGrpSpPr>
            <p:cNvPr id="53" name="任意多边形 11"/>
            <p:cNvGrpSpPr/>
            <p:nvPr/>
          </p:nvGrpSpPr>
          <p:grpSpPr>
            <a:xfrm>
              <a:off x="-25560" y="203040"/>
              <a:ext cx="12217680" cy="648000"/>
              <a:chOff x="-25560" y="203040"/>
              <a:chExt cx="12217680" cy="648000"/>
            </a:xfrm>
          </p:grpSpPr>
          <p:pic>
            <p:nvPicPr>
              <p:cNvPr id="5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3600" y="203040"/>
                <a:ext cx="12195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520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任意多边形 12"/>
            <p:cNvGrpSpPr/>
            <p:nvPr/>
          </p:nvGrpSpPr>
          <p:grpSpPr>
            <a:xfrm>
              <a:off x="-19440" y="242640"/>
              <a:ext cx="12236040" cy="572040"/>
              <a:chOff x="-19440" y="242640"/>
              <a:chExt cx="12236040" cy="572040"/>
            </a:xfrm>
          </p:grpSpPr>
          <p:pic>
            <p:nvPicPr>
              <p:cNvPr id="5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720" y="242640"/>
                <a:ext cx="12217320" cy="57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9080" y="5641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7721640" y="6357960"/>
            <a:ext cx="4470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566360" y="6356520"/>
            <a:ext cx="1015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2F7D-7C1F-4164-A212-5BB59BFD0C0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任意多边形 6"/>
          <p:cNvSpPr/>
          <p:nvPr/>
        </p:nvSpPr>
        <p:spPr>
          <a:xfrm>
            <a:off x="-12600" y="-7920"/>
            <a:ext cx="12217320" cy="1041480"/>
          </a:xfrm>
          <a:custGeom>
            <a:avLst/>
            <a:gdLst>
              <a:gd name="textAreaLeft" fmla="*/ 0 w 12217320"/>
              <a:gd name="textAreaRight" fmla="*/ 12217680 w 122173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5842080" y="-7920"/>
            <a:ext cx="6350040" cy="638280"/>
          </a:xfrm>
          <a:custGeom>
            <a:avLst/>
            <a:gdLst>
              <a:gd name="textAreaLeft" fmla="*/ 0 w 6350040"/>
              <a:gd name="textAreaRight" fmla="*/ 6350400 w 63500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1"/>
          <p:cNvGrpSpPr/>
          <p:nvPr/>
        </p:nvGrpSpPr>
        <p:grpSpPr>
          <a:xfrm>
            <a:off x="-25560" y="203040"/>
            <a:ext cx="12242160" cy="648000"/>
            <a:chOff x="-25560" y="203040"/>
            <a:chExt cx="12242160" cy="648000"/>
          </a:xfrm>
        </p:grpSpPr>
        <p:grpSp>
          <p:nvGrpSpPr>
            <p:cNvPr id="103" name="任意多边形 11"/>
            <p:cNvGrpSpPr/>
            <p:nvPr/>
          </p:nvGrpSpPr>
          <p:grpSpPr>
            <a:xfrm>
              <a:off x="-25560" y="203040"/>
              <a:ext cx="12217680" cy="648000"/>
              <a:chOff x="-25560" y="203040"/>
              <a:chExt cx="12217680" cy="648000"/>
            </a:xfrm>
          </p:grpSpPr>
          <p:pic>
            <p:nvPicPr>
              <p:cNvPr id="10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3600" y="203040"/>
                <a:ext cx="12195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520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任意多边形 12"/>
            <p:cNvGrpSpPr/>
            <p:nvPr/>
          </p:nvGrpSpPr>
          <p:grpSpPr>
            <a:xfrm>
              <a:off x="-19440" y="242640"/>
              <a:ext cx="12236040" cy="572040"/>
              <a:chOff x="-19440" y="242640"/>
              <a:chExt cx="12236040" cy="572040"/>
            </a:xfrm>
          </p:grpSpPr>
          <p:pic>
            <p:nvPicPr>
              <p:cNvPr id="10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720" y="242640"/>
                <a:ext cx="12217320" cy="57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9080" y="5641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页脚占位符 21"/>
          <p:cNvSpPr/>
          <p:nvPr/>
        </p:nvSpPr>
        <p:spPr>
          <a:xfrm>
            <a:off x="7721640" y="6357960"/>
            <a:ext cx="447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5c75"/>
                </a:solidFill>
                <a:latin typeface="隶书"/>
                <a:ea typeface="隶书"/>
              </a:rPr>
              <a:t>云南省慢性非传染病防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7721640" y="6357960"/>
            <a:ext cx="4470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566360" y="6356520"/>
            <a:ext cx="1015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1EC7-7E08-4D88-913E-A87254506F7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任意多边形 6"/>
          <p:cNvSpPr/>
          <p:nvPr/>
        </p:nvSpPr>
        <p:spPr>
          <a:xfrm>
            <a:off x="-12600" y="-7920"/>
            <a:ext cx="12217320" cy="1041480"/>
          </a:xfrm>
          <a:custGeom>
            <a:avLst/>
            <a:gdLst>
              <a:gd name="textAreaLeft" fmla="*/ 0 w 12217320"/>
              <a:gd name="textAreaRight" fmla="*/ 12217680 w 122173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7"/>
          <p:cNvSpPr/>
          <p:nvPr/>
        </p:nvSpPr>
        <p:spPr>
          <a:xfrm>
            <a:off x="5842080" y="-7920"/>
            <a:ext cx="6350040" cy="638280"/>
          </a:xfrm>
          <a:custGeom>
            <a:avLst/>
            <a:gdLst>
              <a:gd name="textAreaLeft" fmla="*/ 0 w 6350040"/>
              <a:gd name="textAreaRight" fmla="*/ 6350400 w 63500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1"/>
          <p:cNvGrpSpPr/>
          <p:nvPr/>
        </p:nvGrpSpPr>
        <p:grpSpPr>
          <a:xfrm>
            <a:off x="-25560" y="203040"/>
            <a:ext cx="12242160" cy="648000"/>
            <a:chOff x="-25560" y="203040"/>
            <a:chExt cx="12242160" cy="648000"/>
          </a:xfrm>
        </p:grpSpPr>
        <p:grpSp>
          <p:nvGrpSpPr>
            <p:cNvPr id="154" name="任意多边形 11"/>
            <p:cNvGrpSpPr/>
            <p:nvPr/>
          </p:nvGrpSpPr>
          <p:grpSpPr>
            <a:xfrm>
              <a:off x="-25560" y="203040"/>
              <a:ext cx="12217680" cy="648000"/>
              <a:chOff x="-25560" y="203040"/>
              <a:chExt cx="12217680" cy="648000"/>
            </a:xfrm>
          </p:grpSpPr>
          <p:pic>
            <p:nvPicPr>
              <p:cNvPr id="155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3600" y="203040"/>
                <a:ext cx="12195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 rot="21435600">
                <a:off x="-2520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任意多边形 12"/>
            <p:cNvGrpSpPr/>
            <p:nvPr/>
          </p:nvGrpSpPr>
          <p:grpSpPr>
            <a:xfrm>
              <a:off x="-19440" y="242640"/>
              <a:ext cx="12236040" cy="572040"/>
              <a:chOff x="-19440" y="242640"/>
              <a:chExt cx="12236040" cy="572040"/>
            </a:xfrm>
          </p:grpSpPr>
          <p:pic>
            <p:nvPicPr>
              <p:cNvPr id="158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720" y="242640"/>
                <a:ext cx="12217320" cy="57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 rot="21435600">
                <a:off x="-19080" y="5641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7721640" y="6357960"/>
            <a:ext cx="4470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10566360" y="6356520"/>
            <a:ext cx="1015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BBC9-2827-49EF-B2D5-672F58AAE9B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单圆角矩形 13"/>
          <p:cNvSpPr/>
          <p:nvPr/>
        </p:nvSpPr>
        <p:spPr>
          <a:xfrm flipV="1" rot="420000">
            <a:off x="4220640" y="1107720"/>
            <a:ext cx="7010640" cy="4114800"/>
          </a:xfrm>
          <a:custGeom>
            <a:avLst/>
            <a:gdLst/>
            <a:ahLst/>
            <a:rect l="l" t="t" r="r" b="b"/>
            <a:pathLst>
              <a:path w="7010400" h="4114800">
                <a:moveTo>
                  <a:pt x="0" y="0"/>
                </a:moveTo>
                <a:lnTo>
                  <a:pt x="6860374" y="0"/>
                </a:lnTo>
                <a:lnTo>
                  <a:pt x="7010400" y="150026"/>
                </a:lnTo>
                <a:lnTo>
                  <a:pt x="70104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角三角形 14"/>
          <p:cNvSpPr/>
          <p:nvPr/>
        </p:nvSpPr>
        <p:spPr>
          <a:xfrm flipV="1" rot="420000">
            <a:off x="10672920" y="5358240"/>
            <a:ext cx="2062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15"/>
          <p:cNvSpPr/>
          <p:nvPr/>
        </p:nvSpPr>
        <p:spPr>
          <a:xfrm flipV="1">
            <a:off x="-12240" y="5815440"/>
            <a:ext cx="12217320" cy="1041480"/>
          </a:xfrm>
          <a:custGeom>
            <a:avLst/>
            <a:gdLst>
              <a:gd name="textAreaLeft" fmla="*/ 0 w 12217320"/>
              <a:gd name="textAreaRight" fmla="*/ 12217680 w 122173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任意多边形 16"/>
          <p:cNvSpPr/>
          <p:nvPr/>
        </p:nvSpPr>
        <p:spPr>
          <a:xfrm flipV="1">
            <a:off x="5842080" y="6219000"/>
            <a:ext cx="6350040" cy="638280"/>
          </a:xfrm>
          <a:custGeom>
            <a:avLst/>
            <a:gdLst>
              <a:gd name="textAreaLeft" fmla="*/ 0 w 6350040"/>
              <a:gd name="textAreaRight" fmla="*/ 6350400 w 63500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7721640" y="6357960"/>
            <a:ext cx="4470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10769400" y="6356520"/>
            <a:ext cx="8125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B762-BA14-41F7-9FA1-4560391FEA5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任意多边形 6"/>
          <p:cNvSpPr/>
          <p:nvPr/>
        </p:nvSpPr>
        <p:spPr>
          <a:xfrm>
            <a:off x="-12600" y="-7920"/>
            <a:ext cx="12217320" cy="1041480"/>
          </a:xfrm>
          <a:custGeom>
            <a:avLst/>
            <a:gdLst>
              <a:gd name="textAreaLeft" fmla="*/ 0 w 12217320"/>
              <a:gd name="textAreaRight" fmla="*/ 12217680 w 122173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7"/>
          <p:cNvSpPr/>
          <p:nvPr/>
        </p:nvSpPr>
        <p:spPr>
          <a:xfrm>
            <a:off x="5842080" y="-7920"/>
            <a:ext cx="6350040" cy="638280"/>
          </a:xfrm>
          <a:custGeom>
            <a:avLst/>
            <a:gdLst>
              <a:gd name="textAreaLeft" fmla="*/ 0 w 6350040"/>
              <a:gd name="textAreaRight" fmla="*/ 6350400 w 63500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组合 1"/>
          <p:cNvGrpSpPr/>
          <p:nvPr/>
        </p:nvGrpSpPr>
        <p:grpSpPr>
          <a:xfrm>
            <a:off x="-25560" y="203040"/>
            <a:ext cx="12242160" cy="648000"/>
            <a:chOff x="-25560" y="203040"/>
            <a:chExt cx="12242160" cy="648000"/>
          </a:xfrm>
        </p:grpSpPr>
        <p:grpSp>
          <p:nvGrpSpPr>
            <p:cNvPr id="249" name="任意多边形 11"/>
            <p:cNvGrpSpPr/>
            <p:nvPr/>
          </p:nvGrpSpPr>
          <p:grpSpPr>
            <a:xfrm>
              <a:off x="-25560" y="203040"/>
              <a:ext cx="12217680" cy="648000"/>
              <a:chOff x="-25560" y="203040"/>
              <a:chExt cx="12217680" cy="648000"/>
            </a:xfrm>
          </p:grpSpPr>
          <p:pic>
            <p:nvPicPr>
              <p:cNvPr id="250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3600" y="203040"/>
                <a:ext cx="12195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 rot="21435600">
                <a:off x="-2520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任意多边形 12"/>
            <p:cNvGrpSpPr/>
            <p:nvPr/>
          </p:nvGrpSpPr>
          <p:grpSpPr>
            <a:xfrm>
              <a:off x="-19440" y="242640"/>
              <a:ext cx="12236040" cy="572040"/>
              <a:chOff x="-19440" y="242640"/>
              <a:chExt cx="12236040" cy="572040"/>
            </a:xfrm>
          </p:grpSpPr>
          <p:pic>
            <p:nvPicPr>
              <p:cNvPr id="253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720" y="242640"/>
                <a:ext cx="12217320" cy="57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 rot="21435600">
                <a:off x="-19080" y="5641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任意多边形 6"/>
          <p:cNvSpPr/>
          <p:nvPr/>
        </p:nvSpPr>
        <p:spPr>
          <a:xfrm>
            <a:off x="-12600" y="-7920"/>
            <a:ext cx="12217320" cy="1041480"/>
          </a:xfrm>
          <a:custGeom>
            <a:avLst/>
            <a:gdLst>
              <a:gd name="textAreaLeft" fmla="*/ 0 w 12217320"/>
              <a:gd name="textAreaRight" fmla="*/ 12217680 w 122173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任意多边形 7"/>
          <p:cNvSpPr/>
          <p:nvPr/>
        </p:nvSpPr>
        <p:spPr>
          <a:xfrm>
            <a:off x="5842080" y="-7920"/>
            <a:ext cx="6350040" cy="638280"/>
          </a:xfrm>
          <a:custGeom>
            <a:avLst/>
            <a:gdLst>
              <a:gd name="textAreaLeft" fmla="*/ 0 w 6350040"/>
              <a:gd name="textAreaRight" fmla="*/ 6350400 w 63500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1"/>
          <p:cNvGrpSpPr/>
          <p:nvPr/>
        </p:nvGrpSpPr>
        <p:grpSpPr>
          <a:xfrm>
            <a:off x="-25560" y="203040"/>
            <a:ext cx="12242160" cy="648000"/>
            <a:chOff x="-25560" y="203040"/>
            <a:chExt cx="12242160" cy="648000"/>
          </a:xfrm>
        </p:grpSpPr>
        <p:grpSp>
          <p:nvGrpSpPr>
            <p:cNvPr id="296" name="任意多边形 11"/>
            <p:cNvGrpSpPr/>
            <p:nvPr/>
          </p:nvGrpSpPr>
          <p:grpSpPr>
            <a:xfrm>
              <a:off x="-25560" y="203040"/>
              <a:ext cx="12217680" cy="648000"/>
              <a:chOff x="-25560" y="203040"/>
              <a:chExt cx="12217680" cy="648000"/>
            </a:xfrm>
          </p:grpSpPr>
          <p:pic>
            <p:nvPicPr>
              <p:cNvPr id="297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3600" y="203040"/>
                <a:ext cx="12195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 rot="21435600">
                <a:off x="-2520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任意多边形 12"/>
            <p:cNvGrpSpPr/>
            <p:nvPr/>
          </p:nvGrpSpPr>
          <p:grpSpPr>
            <a:xfrm>
              <a:off x="-19440" y="242640"/>
              <a:ext cx="12236040" cy="572040"/>
              <a:chOff x="-19440" y="242640"/>
              <a:chExt cx="12236040" cy="572040"/>
            </a:xfrm>
          </p:grpSpPr>
          <p:pic>
            <p:nvPicPr>
              <p:cNvPr id="300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720" y="242640"/>
                <a:ext cx="12217320" cy="57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 rot="21435600">
                <a:off x="-19080" y="5641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304920" y="1249200"/>
            <a:ext cx="11283840" cy="21830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11360" y="3862080"/>
            <a:ext cx="10472400" cy="1530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  <a:ea typeface="宋体"/>
              </a:rPr>
              <a:t>云南疾病预防控制中心慢病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  <a:ea typeface="宋体"/>
              </a:rPr>
              <a:t>秦明芳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宋体"/>
              </a:rPr>
              <a:t>2019</a:t>
            </a:r>
            <a:r>
              <a:rPr b="0" lang="zh-CN" sz="2600" spc="-1" strike="noStrike">
                <a:solidFill>
                  <a:srgbClr val="ffffff"/>
                </a:solidFill>
                <a:latin typeface="Constantia"/>
                <a:ea typeface="宋体"/>
              </a:rPr>
              <a:t>年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宋体"/>
              </a:rPr>
              <a:t>9</a:t>
            </a:r>
            <a:r>
              <a:rPr b="0" lang="zh-CN" sz="2600" spc="-1" strike="noStrike">
                <a:solidFill>
                  <a:srgbClr val="ffffff"/>
                </a:solidFill>
                <a:latin typeface="Constantia"/>
                <a:ea typeface="宋体"/>
              </a:rPr>
              <a:t>月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5000" spc="-1" strike="noStrike">
              <a:solidFill>
                <a:srgbClr val="04617b"/>
              </a:solidFill>
              <a:latin typeface="Calibri"/>
              <a:ea typeface="隶书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验收标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17b"/>
                </a:solidFill>
                <a:latin typeface="Calibri"/>
                <a:ea typeface="隶书"/>
              </a:rPr>
              <a:t>设备验收要求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5</a:t>
            </a: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种</a:t>
            </a:r>
            <a:r>
              <a:rPr b="0" lang="en-US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/</a:t>
            </a: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类设备为必配设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8</a:t>
            </a: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种</a:t>
            </a:r>
            <a:r>
              <a:rPr b="0" lang="en-US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/</a:t>
            </a: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类设备为选配设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设备清单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17b"/>
                </a:solidFill>
                <a:latin typeface="Calibri"/>
                <a:ea typeface="隶书"/>
              </a:rPr>
              <a:t>制度清单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305240" y="2344680"/>
          <a:ext cx="3895920" cy="3808440"/>
        </p:xfrm>
        <a:graphic>
          <a:graphicData uri="http://schemas.openxmlformats.org/drawingml/2006/table">
            <a:tbl>
              <a:tblPr/>
              <a:tblGrid>
                <a:gridCol w="3895920"/>
              </a:tblGrid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方正仿宋简体"/>
                        </a:rPr>
                        <a:t>培训上岗制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方正仿宋简体"/>
                        </a:rPr>
                        <a:t>首诊测血压制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方正仿宋简体"/>
                        </a:rPr>
                        <a:t>双向转诊制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方正仿宋简体"/>
                        </a:rPr>
                        <a:t>初次确诊患者建档制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方正仿宋简体"/>
                        </a:rPr>
                        <a:t>每日检查审核制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17b"/>
                </a:solidFill>
                <a:latin typeface="Calibri"/>
                <a:ea typeface="隶书"/>
              </a:rPr>
              <a:t>下一步计划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09480" y="176328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慢病管理中心工作内容扩展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培训：接受上级疾控、医院培训；培训村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常见、多发慢性病登记报告及随访管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家庭医生签约服务调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42676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4617b"/>
                </a:solidFill>
                <a:latin typeface="Calibri"/>
                <a:ea typeface="隶书"/>
              </a:rPr>
              <a:t>谢    谢！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02880" y="743040"/>
            <a:ext cx="8790120" cy="8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4617b"/>
                </a:solidFill>
                <a:latin typeface="Calibri"/>
                <a:ea typeface="隶书"/>
              </a:rPr>
              <a:t>主要内容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902040" y="1934640"/>
            <a:ext cx="7680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背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建设要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验收标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下一步计划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460440"/>
            <a:ext cx="10972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17b"/>
                </a:solidFill>
                <a:latin typeface="Calibri"/>
                <a:ea typeface="隶书"/>
              </a:rPr>
              <a:t>云南省慢性病现状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09120" y="1557360"/>
            <a:ext cx="112222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慢性病死亡占</a:t>
            </a:r>
            <a:r>
              <a:rPr b="0" lang="en-US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82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前四位死因均为慢性病：脑血管疾病、心脏病、慢性呼吸系统疾病、恶性肿瘤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慢性病患病、死亡人数巨大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高血压患者超过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糖尿病患病超过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230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慢阻肺患者约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540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万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每年新发脑卒中患者约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万、冠心病患者约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4.8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每年有超过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万人新发癌症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109728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17b"/>
                </a:solidFill>
                <a:latin typeface="Calibri"/>
                <a:ea typeface="隶书"/>
              </a:rPr>
              <a:t>云南省慢性病危险因素现状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8" name="图片 3" descr=""/>
          <p:cNvPicPr/>
          <p:nvPr/>
        </p:nvPicPr>
        <p:blipFill>
          <a:blip r:embed="rId1"/>
          <a:stretch/>
        </p:blipFill>
        <p:spPr>
          <a:xfrm>
            <a:off x="179280" y="1119240"/>
            <a:ext cx="2880000" cy="246852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4" descr=""/>
          <p:cNvPicPr/>
          <p:nvPr/>
        </p:nvPicPr>
        <p:blipFill>
          <a:blip r:embed="rId2"/>
          <a:stretch/>
        </p:blipFill>
        <p:spPr>
          <a:xfrm>
            <a:off x="179280" y="3673440"/>
            <a:ext cx="2880000" cy="246852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5" descr=""/>
          <p:cNvPicPr/>
          <p:nvPr/>
        </p:nvPicPr>
        <p:blipFill>
          <a:blip r:embed="rId3"/>
          <a:stretch/>
        </p:blipFill>
        <p:spPr>
          <a:xfrm>
            <a:off x="3112920" y="1119240"/>
            <a:ext cx="3000600" cy="246852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6" descr=""/>
          <p:cNvPicPr/>
          <p:nvPr/>
        </p:nvPicPr>
        <p:blipFill>
          <a:blip r:embed="rId4"/>
          <a:stretch/>
        </p:blipFill>
        <p:spPr>
          <a:xfrm>
            <a:off x="3112920" y="3673440"/>
            <a:ext cx="3000600" cy="24685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8" descr=""/>
          <p:cNvPicPr/>
          <p:nvPr/>
        </p:nvPicPr>
        <p:blipFill>
          <a:blip r:embed="rId5"/>
          <a:stretch/>
        </p:blipFill>
        <p:spPr>
          <a:xfrm>
            <a:off x="6165720" y="1119240"/>
            <a:ext cx="2934000" cy="246852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9" descr=""/>
          <p:cNvPicPr/>
          <p:nvPr/>
        </p:nvPicPr>
        <p:blipFill>
          <a:blip r:embed="rId6"/>
          <a:stretch/>
        </p:blipFill>
        <p:spPr>
          <a:xfrm>
            <a:off x="6165720" y="3692520"/>
            <a:ext cx="2934000" cy="246852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10" descr=""/>
          <p:cNvPicPr/>
          <p:nvPr/>
        </p:nvPicPr>
        <p:blipFill>
          <a:blip r:embed="rId7"/>
          <a:stretch/>
        </p:blipFill>
        <p:spPr>
          <a:xfrm>
            <a:off x="9153360" y="1119240"/>
            <a:ext cx="2859120" cy="246852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11" descr=""/>
          <p:cNvPicPr/>
          <p:nvPr/>
        </p:nvPicPr>
        <p:blipFill>
          <a:blip r:embed="rId8"/>
          <a:stretch/>
        </p:blipFill>
        <p:spPr>
          <a:xfrm>
            <a:off x="9153360" y="3692520"/>
            <a:ext cx="28609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50920"/>
            <a:ext cx="1097280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17b"/>
                </a:solidFill>
                <a:latin typeface="Calibri"/>
                <a:ea typeface="隶书"/>
              </a:rPr>
              <a:t>健康中国行动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09480" y="1031760"/>
            <a:ext cx="10972800" cy="56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ts val="3498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慢病四个专项行动（</a:t>
            </a:r>
            <a:r>
              <a:rPr b="0" lang="en-US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4/15</a:t>
            </a: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ts val="3498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30</a:t>
            </a:r>
            <a:r>
              <a:rPr b="0" lang="zh-CN" sz="24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～</a:t>
            </a:r>
            <a:r>
              <a:rPr b="0" lang="en-US" sz="24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70</a:t>
            </a:r>
            <a:r>
              <a:rPr b="0" lang="zh-CN" sz="24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岁人群因心脑血管疾病、癌症、慢性呼吸系统疾病和糖尿病导致的过早死亡率下降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ts val="3498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心脑血管疾病防治专项行动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ts val="3498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心脑血管疾病死亡率下降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ts val="3498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慢性呼吸系统疾病防治专项行动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ts val="3498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70</a:t>
            </a:r>
            <a:r>
              <a:rPr b="0" lang="zh-CN" sz="21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岁及以下人群慢性呼吸系统疾病死亡率下降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ts val="3498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癌症防治专项行动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ts val="3498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总体癌症</a:t>
            </a:r>
            <a:r>
              <a:rPr b="0" lang="en-US" sz="21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5</a:t>
            </a:r>
            <a:r>
              <a:rPr b="0" lang="zh-CN" sz="21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年生存率上升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ts val="3498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糖尿病防治专项行动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ts val="3498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糖尿病规范管理率、知晓率、治疗率、控制率上升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17b"/>
                </a:solidFill>
                <a:latin typeface="Calibri"/>
                <a:ea typeface="隶书"/>
              </a:rPr>
              <a:t>建设要求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09480" y="176328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机构：乡镇卫生院和社区卫生服务中心建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职能：健康管理</a:t>
            </a:r>
            <a:r>
              <a:rPr b="0" lang="en-US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诊断治疗</a:t>
            </a:r>
            <a:r>
              <a:rPr b="0" lang="en-US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康复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建设要求：场所（分区）</a:t>
            </a:r>
            <a:r>
              <a:rPr b="0" lang="en-US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标识</a:t>
            </a:r>
            <a:r>
              <a:rPr b="0" lang="en-US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人员</a:t>
            </a:r>
            <a:r>
              <a:rPr b="0" lang="en-US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设备</a:t>
            </a:r>
            <a:r>
              <a:rPr b="0" lang="en-US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制度</a:t>
            </a:r>
            <a:r>
              <a:rPr b="0" lang="en-US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工作开展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工作内容：高血压、糖尿病患者管理</a:t>
            </a:r>
            <a:r>
              <a:rPr b="0" lang="en-US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多发常见慢性病诊疗</a:t>
            </a:r>
            <a:r>
              <a:rPr b="0" lang="en-US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病后康复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0440" y="321840"/>
            <a:ext cx="729288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4617b"/>
                </a:solidFill>
                <a:latin typeface="Calibri"/>
                <a:ea typeface="隶书"/>
              </a:rPr>
              <a:t>验收要求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37840" y="1147320"/>
            <a:ext cx="1123308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高度重视：列入今年省政府惠民实事之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验收方式：县区初评、市级复评、省级抽查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完成时限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2018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年、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2019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年省级慢性病管理能力提升项目、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2018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年中央财政医疗服务能力提升（临床能力服务建设）项目支持的</a:t>
            </a:r>
            <a:r>
              <a:rPr b="0" lang="en-US" sz="24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63</a:t>
            </a:r>
            <a:r>
              <a:rPr b="0" lang="zh-CN" sz="24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基层慢性病管理中心于</a:t>
            </a:r>
            <a:r>
              <a:rPr b="0" lang="en-US" sz="24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月底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完成县区初评、州市复评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2019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年医疗服务与保障能力提升（医疗卫生机构能力建设）资金、基本公共卫生服务慢性病能力建设项目等支持的建设项目，在资金下达后的</a:t>
            </a:r>
            <a:r>
              <a:rPr b="0" lang="zh-CN" sz="24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半年内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完成建设任务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2" name="图片 3" descr=""/>
          <p:cNvPicPr/>
          <p:nvPr/>
        </p:nvPicPr>
        <p:blipFill>
          <a:blip r:embed="rId1"/>
          <a:stretch/>
        </p:blipFill>
        <p:spPr>
          <a:xfrm>
            <a:off x="7813800" y="77760"/>
            <a:ext cx="43783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704880"/>
            <a:ext cx="1097280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17b"/>
                </a:solidFill>
                <a:latin typeface="Calibri"/>
                <a:ea typeface="隶书"/>
              </a:rPr>
              <a:t>验收标准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09480" y="1819440"/>
            <a:ext cx="109728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大项</a:t>
            </a:r>
            <a:r>
              <a:rPr b="0" lang="en-US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3</a:t>
            </a: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个指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设置情况（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5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标牌和标识、</a:t>
            </a:r>
            <a:r>
              <a:rPr b="0" lang="zh-CN" sz="23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区域及科室设置、</a:t>
            </a:r>
            <a:r>
              <a:rPr b="0" lang="zh-CN" sz="21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人员配置、设备配置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管理情况（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5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发文、经费使用、制度建设、人员培训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工作开展情况（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5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首诊测血压、首诊测血糖、确诊患者建档管理、实施双向转诊、院内自评检查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280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17b"/>
                </a:solidFill>
                <a:latin typeface="Calibri"/>
                <a:ea typeface="隶书"/>
              </a:rPr>
              <a:t>验收通过标准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09480" y="1934640"/>
            <a:ext cx="1097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测评实行百分制，测评</a:t>
            </a:r>
            <a:r>
              <a:rPr b="0" lang="zh-CN" sz="26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≧</a:t>
            </a:r>
            <a:r>
              <a:rPr b="0" lang="en-US" sz="26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80</a:t>
            </a:r>
            <a:r>
              <a:rPr b="0" lang="zh-CN" sz="26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分</a:t>
            </a: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为合格，低于</a:t>
            </a:r>
            <a:r>
              <a:rPr b="0" lang="en-US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80</a:t>
            </a: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分不合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不合格的机构整改完成后再次进行评审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9T01:15:04Z</dcterms:created>
  <dc:creator>feng jiao</dc:creator>
  <dc:description/>
  <dc:language>en-US</dc:language>
  <cp:lastModifiedBy>1029079099@qq.com</cp:lastModifiedBy>
  <dcterms:modified xsi:type="dcterms:W3CDTF">2019-09-18T15:23:52Z</dcterms:modified>
  <cp:revision>176</cp:revision>
  <dc:subject/>
  <dc:title>云南省城市癌症早诊早治项目进展汇报</dc:title>
</cp:coreProperties>
</file>